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58C2C-2E00-42C5-82B2-EBFADD07D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D0741-20D7-4D4B-B88F-005DC8F33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98C17-3D2F-49F0-AA79-A72C7FF68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18649-F2B3-4BF1-8771-BBA5978BA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6C769-2CB0-489B-BCCA-3AD50CEF6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36D51-8AA4-45D2-8E54-FBD810949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1E6AC-4015-4181-9CAD-A7F31900C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81D6F-6379-4710-8600-1FBBDD207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20507-D39E-49CD-88D0-FBDF88065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A7AD3-4619-40F4-BB3C-0AE1D4203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41576-8D31-48C9-9FEB-E72E1ABE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FCA0A-3D92-4D09-BE8C-98A2BB765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BB5B9-3A54-4501-9BB4-7949ADAF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ED2F2-AA16-45A5-A50B-60A8CACE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E0221-690E-47D5-9172-E46E18D3E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ECD0E-5EB8-481C-B210-D6B979E6E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C6D05-AD0B-4FF2-B166-801BF223B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D1868-277E-4F54-B070-5D5098908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FD466-7E33-4956-A0AE-751AFC78E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4316F-119C-4BCD-B48F-97510DA41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AEFAE-B823-428E-9136-BDEA3B3CB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5CD65-C0F4-42B4-9FDD-59970E5E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F1F66-C4DD-46AD-92C1-6877F428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5FE24-E29B-41E2-A5A4-B977E070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71950-4FCD-4436-927E-83B30AD7BE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903FE-B1D6-444D-A569-41727D7ED7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Times New Roman"/>
              </a:rPr>
              <a:t>RECUPERAÇÃO EXTRAJUDICIAL DE EMPRESA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5157720"/>
            <a:ext cx="82296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tigos 161 a 167 -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ei n. 11.101/2005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203640" y="2349360"/>
            <a:ext cx="2736720" cy="27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2) Plano por Classe de Credo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rovação de 3/5 de todos os créditos constituídos até a data do pedid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brange um ou mais classes de credores entre as previstas nos incisos II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(créditos com garantia real até o limite do valor do bem gravado)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IV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(créditos com privilégio especial),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V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(créditos com privilégio geral),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VI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(créditos quirografários)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e VIII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(créditos subordinados)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o art. 83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briga a totalidade dos credores da espécie consignada do termo de adesã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egras para obtenção do percentual de 3/5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   Leva-se em consideração a somatória de todos os créditos da classe, que foram incluídos no plano, sendo que os demais créditos não poderão ter seu valor ou condições originais de pagamento alterad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2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  o crédito em moeda estrangeira será convertido para moeda nacional pelo câmbio da véspera da data de assinatura do plano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2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egras para obtenção do percentual de 3/5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c) Não se computam créditos dos sócios do devedor, das sociedades coligadas, controladas, controladoras ou das que tenham sócio ou acionista com participação superior a 10% do capital social do devedor ou que o devedor ou algum de seus sócios detenham participação superior a 10% do capital social (arts. 163, § 2º, II, e 43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feito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mologado, o plano gera efeitos imediatos, independentemente de recurs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)   Título executivo judicial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)   Bem objeto de garantia real fica impedido de se alienado, substituído ou suprimido, salvo com prévia autorização do credor titular da garant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feito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)   Manutenção da variação cambial, salvo se o credor titular do crédito aprovar mudança e for inserida no plan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)   Se o plano estabelecer a alienação judicial de ativos do devedor, deve respeitar o previsto no art. 14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)   Caso estabelecido, produzirá efeitos anteriores à homologação, com relação à modificação do valor ou da forma de pagamento dos credores signatários.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Documentos Necessário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518040" indent="-518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Petição inicial (justificativa, termos e condições do plano subscrito pelos credore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8040" indent="-518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Exposição da situação patrimonial do deved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8040" indent="-518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Demonstrações contábeis relativas ao último exercício social e as levantadas especialmente para instruir o pedido, na forma do inciso II do </a:t>
            </a:r>
            <a:r>
              <a:rPr b="1" lang="pt-BR" sz="3200" spc="-1" strike="noStrike">
                <a:solidFill>
                  <a:srgbClr val="ffffff"/>
                </a:solidFill>
                <a:latin typeface="Garamond"/>
              </a:rPr>
              <a:t>caput</a:t>
            </a: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 do art. 51 desta Lei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8040" indent="-518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os documentos que comprovem os poderes dos subscritores para novar ou transigir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Documentos Necessário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e)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relação nominal completa dos credores, com a indicação do endereço de cada um, a natureza, a classificação e o valor atualizado do crédito, discriminando sua origem, o regime dos respectivos vencimentos e a indicação dos registros contábeis de cada transação pendente.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cediment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cebido o pedido – publicação em edital ou jornal de grande circulação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 30 dias para credores impugnarem sobr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ão preenchimento do percentual mínimo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scumprimento de requisito leg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tos praticados com a intenção de prejudicar credore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atica de atos previstos no inciso II, do artigo 94 da LF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scumprimento de qualquer outra exigência legal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cediment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resentada a impugnação – Vista dos autos ao devedor por 5 di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mologado ou não – Apelação sem efeito suspensiv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 indeferido o pedido – credores poderão exigir normalmente seus crédito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spectos Interessant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a lei elimina  quase todos os mecanismos para evitar abusos pelos devedores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o devedor pode a cada 2 anos pedir nova recuperação, podendo acarretar uma empresa  utilizando-se perpetuamente do plano de recuperação extra judicial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o devedor escolhe o credor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as informações são restritas comparado-se com a recuperação judicial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não existe habilitação de crédito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não é exigida a regularidade fiscal nem tampouco obrigação de prestação de contas do devedor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Novo Sistema Falimentar Brasileiro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i n.º 11.101 de 08.02.200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bjetivo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vitar a liquidação de empresas viáveis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nter empreg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nter geração de tribut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riquecimento dos mecanismos para recuperação de crédit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struturar os negócios, as operações da empres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cuperar a empres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spectos Interessant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não há comitê de credores, nem </a:t>
            </a:r>
            <a:r>
              <a:rPr b="1" lang="en-US" sz="2600" spc="-1" strike="noStrike">
                <a:solidFill>
                  <a:srgbClr val="ffcc00"/>
                </a:solidFill>
                <a:latin typeface="Garamond"/>
              </a:rPr>
              <a:t>tampouco 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presença do Ministério Público como órgão fiscalizador, nem mesmo  previsão de afastamento do administrador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em caso de descumprimento do plano não ocorre a falência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O art. 164, § 3º, traz restrição quanto ao Plano de Recuperação Extra-Judici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Não existe a obrigatoriedade de dar legitimação a decisão da maioria como por exemplo a divulgação à todos os credores de todas as informações necessárias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spectos Interessant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cc00"/>
                </a:solidFill>
                <a:latin typeface="Garamond"/>
              </a:rPr>
              <a:t>os créditos abrangidos são os de acordo com o artigo 163, § 1º: "créditos constituídos até a data do pedido de homologação", porém não restando claro se comporta créditos vencidos apenas ou também os vincendo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cc00"/>
                </a:solidFill>
                <a:latin typeface="Garamond"/>
              </a:rPr>
              <a:t>após a homologação - não fiscalização, ou mesmo, penalidade em havendo descumprimento do Plano por parte do Devedor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cc00"/>
                </a:solidFill>
                <a:latin typeface="Garamond"/>
              </a:rPr>
              <a:t>A minoria dissidente que pode ficar totalmente a margem do plano e só constar neste para fins de homologação obrigatória e que, após homologação, sequer poderão requer falência do credor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réditos Tributário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Lei não prevê possibilidade de parcelamento do débito tributári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rojeto de Lei Complementar n.º 118 de 08.02.0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Propõe alteração mo CTN para adequá-lo às modificações introduzidas pela nova lei de Recuperação de Empresa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cessão Tributária e Previdenciár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parcelamento do débit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Créditos Fiscais X Créditos com garant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ipos de Recuperaçã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1100"/>
              </a:spcBef>
              <a:buClr>
                <a:srgbClr val="ffcc00"/>
              </a:buClr>
              <a:buSzPct val="70000"/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Recuperação extrajudicial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ctr">
              <a:spcBef>
                <a:spcPts val="1100"/>
              </a:spcBef>
              <a:buClr>
                <a:srgbClr val="ffcc00"/>
              </a:buClr>
              <a:buSzPct val="70000"/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Recuperação judicial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ctr">
              <a:spcBef>
                <a:spcPts val="1100"/>
              </a:spcBef>
              <a:buClr>
                <a:srgbClr val="ffcc00"/>
              </a:buClr>
              <a:buSzPct val="70000"/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Falênci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stina-se as empresas devedoras em situação de crise econômica, que preencham os requisitos do art. 4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lano de Recuperação Extrajudicial” (PRE), que prevê forma de pagamento dos débitos, demonstra receitas, garantias e que será apresentado a todos os credores, por meio de assembléia ou reuniã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imit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ão pode contemplar o pagamento antecipado de dívidas nem tão pouco tratamento desfavorável aos que a ele não estão sujeit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(princípio da igualdade de tratamento entre credore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ão suspende direitos, ações ou execuções, nem impossibilita o pedido de falência por parte dos que ao plano não estejam sujeitos (art. 161, §4º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(princípio da universalidade)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mpossibilidade de pedido contemporâneo a outro de recuperação judicial pendente, ou extrajudicial pendente ou homologado a menos de 2 an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Sujeição do credor signatário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ma vez tendo aderido ao plano, distribuído o pedido em juízo, não pode o credor desistir, salvo com anuência expressa dos demais signatári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203640" y="1341360"/>
            <a:ext cx="20365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odalidades de plano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1) Plano individualizad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2) Plano por classe de credores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1) Plano Individualizad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rt. 162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unho mais restrito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vedor negocia apenas com alguns credor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ustificar ao juízo a razão da escol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3T18:45:17Z</dcterms:created>
  <dc:creator>Giuber J L Santos</dc:creator>
  <dc:description/>
  <dc:language>en-US</dc:language>
  <cp:lastModifiedBy>anct</cp:lastModifiedBy>
  <dcterms:modified xsi:type="dcterms:W3CDTF">2005-09-29T18:01:33Z</dcterms:modified>
  <cp:revision>12</cp:revision>
  <dc:subject/>
  <dc:title>Slide 1</dc:title>
</cp:coreProperties>
</file>